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1CE5E-70CA-4023-B0B6-BEE2EBE903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AA40E-3CCD-487F-9F47-3136FE82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1BA896-CE0B-4E26-BD85-653D7C11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83749C-11F4-47A4-86F7-3684431E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72BEC2-F021-4D96-99CD-E844EE50E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779F32-6E87-4FDE-B2E6-29A5E4ED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F97275-FAEF-473D-9E54-4B9E46B9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0DEE93-F59A-4FCB-B29A-86A9626F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F5E597-077C-4E3F-889D-D41571C3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B1F027-DDD6-4C0B-86CA-C4AD8038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50981D-90C4-4855-97F7-4E43DC3328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377FC-A934-43FB-8394-2E483B65B3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9C982-1B38-4189-8C47-98BA2A7B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D0D76-CEB7-4063-8B97-D2FD5A8C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89722-796C-4AD6-81A7-3E755F44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2E072-9DC7-4E65-B29D-A3BD551D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67A83-E310-4293-9B14-E5F07EB8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C2FFA-3818-41D3-AABF-CB83AEFC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674C4-DE66-42E6-BBE5-1F3150D6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3CB47-716E-4060-8882-42B5F507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99F01-8183-4516-9747-8F64425D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052AF-73CF-4534-881E-0405C233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79AC6-34A1-470F-9A71-A4217297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45299-9164-4CF7-AE65-42124D82A6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67168-0742-4E95-B958-D9A1EAAFED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5DD005-90B6-41F1-A453-536854D524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E271B9-2180-4C63-9390-2ACCAA84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6DA04E-69A0-4C0F-8BC9-CB9A4EE8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49A3BE-570D-4500-A887-2F6E72AC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556D39-55EE-4BEF-A99F-39565531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8DFACE-8D09-4501-83C5-0A164087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4CECDC-6B91-4E39-8185-A807E786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E4F284-CCCA-4D2D-B711-BA9A22E2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1FE488-180B-4DE0-8466-6272239A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E5467-528C-4293-A4B3-5C202772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D1F7D2-9D11-4DA3-96EE-DF9CE8F7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3A0D9E-C6F1-486D-8CA2-7D5D8170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2DF460-8388-43FA-8958-3E748B1CCF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DACF84-3B5C-42F6-856D-7E10B971DF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B19ACB-D502-4F11-9B91-E8A136A1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5E8EE-6B64-42FD-8511-FE162244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2E3487-E08F-4457-8075-C292ACF2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B4FF04-994B-4F1E-BD07-A8C4C79B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5028C0-5892-4D91-9C67-3A6EE493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CF9873-86E5-43EF-9577-D56648E1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58C25-6755-4913-965C-40F28647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299A19-8907-456A-B578-9A056A0D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37774E-A740-4C36-BF92-665A6847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3DD6A1-1449-4F16-B496-A5C89A49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02EAB5-511E-454C-835D-76957CB2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04F766-C1A3-4A45-AE3F-AE81A651E7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C0B16-B59E-469C-9F41-E0BEA58323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FFF01-5CD1-43F5-807D-EA111F32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61213-3CC3-4FEA-999E-8FA7F013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8716A-B001-4DD2-AC6A-75C39D8F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D1175-7F85-4BCC-BBB4-094A5383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EB0E2-ACBF-4492-8AFD-AE00A8E4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FC9B3-B400-4903-AAFE-0151AEFF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1ED4E-112E-462A-BFF1-64E4D755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63CAE-5015-4145-A154-F6174B41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0E7CB-AC03-476D-994C-0EB0495F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9FA14-637A-49D1-8715-5D1C05EA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B2963-D813-4BB8-AB50-25723449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77006-9E7A-49E6-868A-F38ACC6188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D6455-67B4-4A0F-B1A2-3342A6F8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92464-4DA2-4E24-9488-9386DB85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2A16A-D9DF-4E75-8AFE-FCB98312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C606F-29A2-4B89-A3EA-BCA0C1F0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478FE-8995-4BAC-8F0A-098D069C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A7A91-DBA1-4476-A5A6-C74F584D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D7C12-D0B9-4B40-A7FC-FCD537B3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EBCDA-C346-44E7-8BD5-B606F0E3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26125-9A43-4DB0-9683-BF07DA7C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AEADC-782B-4CBC-A007-CAD7948D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E4044-802D-4D52-8549-B19C6344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FB0C4-AE20-44F7-9327-5AAA10CA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EF8BC-7FF0-4435-83D6-FD8A42B4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747D2-F08E-4F5E-A93B-AF8E164E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AB62B-5454-42C0-BFF7-9222B3CC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F8B0C-5008-4C91-A0B6-F102859D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43482-E2E4-49FD-A20C-8C6C018A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99AEE-F2A6-4966-9C2A-3FD966DF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2C4C9-74F4-46D7-AC96-95320EDE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5657F-EAB2-41AA-8762-0FA4FD12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FB5C9-EDDD-476C-ACEF-82871B96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B3988-1AE1-4AD0-B84D-5675115D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AAF13-D138-40D1-B866-6409DC17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D2F68-1FAA-4668-911A-5FFA0745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39218-8E7D-4246-BE90-1AA8AECB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AF0E2-85C9-4996-921B-36AB8BED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34603-8C38-4F77-B17B-14AC5E18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D3EBE-30AE-49AB-BCBB-020352B5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3ED69-D87C-45A7-BBF8-A7257F93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51FAA-6C28-4AAC-A51D-DB90D972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8E98D1-6AE0-411A-8D09-92F1CEF9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E57CC-8893-4187-9711-A3EFDBBE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10620-52DD-48C7-B14D-66603A1D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96C1D-73EE-4ADE-A21D-1359A173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731C49-6594-4E95-8D67-03D34EC3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C1E68-EBE6-45BB-AF68-21621DDA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8C3E3-6A08-48AC-B04D-E6A6A66B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B75F3-2037-434B-B64E-9C387EBB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69905-F893-4D75-9527-79CF820D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21FBC-D702-45B0-B5E0-10F3F4E3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9E4E64-FF09-4591-A6AB-CD646CEF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5E6EA7-5297-47AE-BFF6-D6C5EDBE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DE1919-51A2-489B-ACAC-A9AB01D6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790421-417B-4114-923D-AFE91915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3C13EF-C60B-4DF2-BEA5-9BBB0CBD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7A02C1-D0B3-411C-8A1B-DBEF75B2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94928D-B65A-4384-9C0E-8EF6B880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1CCBC-FF19-42FF-B77E-7C614D48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24BA6-C4F8-4E01-8B4C-2C24A72C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F01213-BD83-4DB6-8BE9-9EDB8BD5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E27393-37D5-406B-9810-40F215FB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F80713-C33F-43B6-8148-EFD614FA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541C25-1EF5-4CF5-89EE-E4BD5FD2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F4E2AB-9162-4672-993F-C1DCC978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2519DF-609F-4277-AE80-6915609A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3BB22D-79E1-4814-BDFF-FEF5CCDC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17FE55-1680-4524-998A-09303640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853262-11AD-4124-A03F-F1550AE4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F13AD3-22AE-460A-8891-48F59E26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50158-C8CE-46B0-B9FD-9A1A3FBE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6F880D-C04F-46A7-B48D-DC8EDBCE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DBBEF4-0E5B-42AF-A942-BD0713C1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F299B2-F2DC-4F48-B30B-A02C4CDC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48C1CB-8DA3-4DF9-896D-5B0F0A9B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3DA074-A1A3-4389-B8E9-D244985E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847A4E-D8FF-46E4-BC11-20BCA923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2A0A33-CF27-4160-A409-D25A01D4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84E775-BFB5-41B9-92C6-F144B250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18E15D-2AF5-4E66-94E0-5750BF18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F89298-2FAE-4DDD-9A40-02D60AFC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07DAD-76FD-4EAB-AF77-8D9D3053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F7DBE8-5299-463D-9600-02064C0A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AA4F28-C475-4B5A-8785-BA5D272B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BF44B7-1141-4F2A-8BF1-ACB2000A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A64351-696E-4CBA-BFED-7F3DF6FE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7900F1-F9ED-4C81-9F90-BD2158E9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2672AA-21FF-4167-8AEA-AAA775B5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366C6D-3000-4E2D-9CF2-C67E8081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6F5EA0-558F-4390-9E18-B83B052D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F1C093-E006-47D3-8BA4-2FC11179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DEC7A6-C4F0-4C7C-AFC6-23E34929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674AF-D229-4C4B-B38F-2F7AF630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41AF4D-0CB9-4A78-83C3-5DCD2E34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0BFC1F-1427-480B-892F-D048C45B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D84F4E-7B7E-4771-B94A-DE79EFA1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E6E8E3-02A6-4B8E-B0A6-1D7FD4DA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BD9EAF-7042-47DB-9AF4-99DA545D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FC5991-A333-484E-A982-6F314345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DE7F24-6EB2-4E30-A8C3-B3D2FB26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270A65-FBCE-447F-9D30-F612C3FC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5C4C4C-B1EF-4DE9-B2E8-3B0FB421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1BC41B-8F71-48E1-B42A-0967AE81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127E6-BF59-48B4-9BED-BA0DC4D0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B236E2-4C5F-40C2-AA64-AFA84322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05B6C6-7FCE-44F3-A34E-E5B97D30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14FF7F-B64F-4391-BCEF-A4AFC0F3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8E51E8-CADD-46FA-8D97-45971BC2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F38E8B-B9C4-469C-AED2-8F3F1D99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125401-2760-4E10-84E8-5B8FDE20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0F1F64-ECFD-44BA-8D7C-CCB20DC8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AA6A2A-BD2F-4F20-B7A4-51E5B005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5F6AAE-18A6-487A-9653-F02C0D1F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7A89C7-CF42-4558-A47F-9F90C80E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B7E006-3BB7-46B5-9B51-6CAC144415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44BE2D-264F-4211-9736-E9CC3A75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E15526-813F-410A-8EE5-50BB1F97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B1D39F-512C-4747-967D-AAF7B9D6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F166F7-B263-4FB4-AC3A-18F96753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5F13CC-DDA9-45B4-9D14-0BF1B9FF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888541-6A4D-41ED-B7FF-085DEDCE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36CD78-ABFD-49DB-88B3-625E0E92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BC778C-513B-47FC-A104-889B99C9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1EBABC-CB23-4F75-8211-AB7367C4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D2C625-C5AA-4428-BBE5-5D6AA8E1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32A815-36AD-4CD8-88E8-57C6E2E7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ED9C05-0DBE-4319-B063-DCA2901D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92BE6A-8299-4BC8-A5C0-AA8D60AD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600FB7-52D1-47B8-89AA-CE660539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439D9C-6648-4E2A-BCB1-1C34221A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5DA25A-5525-4F7E-8BA0-80C59167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528087-0D68-4067-959B-8347D8FA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3D1775-C37A-4175-89DC-70E71006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30DAD6-2DC4-41DD-888B-220AAE49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1816A2-FF37-4AC4-A65F-A10D2DFB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8B55CF-E27E-4A2C-A457-1F8674C2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B0F768-9515-4F69-B57D-E2E3EF81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2E20DF-90DB-4159-819F-0C4577B7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16B3D2-7801-4F89-BC40-C79A1ACD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B67A31-6B3A-4B2C-ACD7-24DE77F7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CA62AC-4A8D-41A1-B2CE-3782D7B8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E0C1C7-448C-4E0E-88C5-2FF1480E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917322-22BB-4907-8510-FDFA2C00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483668-5188-4398-B220-25E765ED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A72A78-05A3-45AF-888A-9828B2D8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5363B6-DAFD-4D90-90A5-07E8820B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D7ED72-18DE-4462-9F2A-ADC77AEE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EE113A-CC91-4314-9978-751CB207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F454F2-5272-4E1A-B45E-9FC445BF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7B53E8-A83A-40A6-855B-EDBF0DB6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B5FD3A-9F5E-4878-B6C9-E677B41C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7AB984-F7FA-4D87-BBD9-C5CCD450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C4C650-8AB4-4D9B-9264-3C402266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CA66DB-B7DD-4C65-9529-2D4B2F74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275412-D873-4186-8F47-18A0A76B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C5BA85-FEFE-4575-817C-5F4850A58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A14CAC-0ED7-4517-916E-D96218C1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E17116-B6EE-41B2-93B9-9CA758A4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4F1D7-FDCD-4A5B-BB62-0D0DE2BA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2C3DDA-419C-48D0-8CE6-E45FE9E8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4E8C12-3037-45F4-9BA1-460DF321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2831F0-0B21-42A6-9FCF-39025774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14FCE6-1060-41A7-A075-B8C9DE19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53CF99-0868-4F9B-B641-70EE978C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7190A9-7C33-4776-ADFC-5A4EEBA8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651D3A-3E35-4B9D-A7B1-3D263E6C80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0D334-9334-4092-96B4-B26833FB20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BF956-8E28-4A9C-AE6A-E12940DE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95A9D-53CF-457E-9B9E-9EE71BC8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2CB28-AC2D-4CA3-83D2-6A924E1C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C2933-C378-4AA6-90F8-1F6A7FA7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3BA88-FA52-4335-A732-CC5B34E1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B6180-C2AE-496F-AA5C-2F61E0C1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FE98D-439E-49CD-869C-253C3074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B9C9C-F2D7-4856-84F1-2E39F703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6B839-257A-4F2B-8612-DF90C57A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D4D0A-6CBD-447B-8281-EE391CC7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C7E41-F4DB-49FD-89BD-E79D2050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BA0CD-A34A-43CF-B389-2FAF64C889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B8D569-3526-4195-AA2B-C27FE4222C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45FC2-A537-4029-B50B-DC8EE4FA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ABC5B3-EDDE-4F1C-9FF6-9A807CCB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784003-F791-4560-9094-91342D78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B4EABF-9AF7-498F-8A31-6ADF34BE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222C0C-79A3-40F6-A60C-CFB17523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369547-20BE-40C8-938C-A75F8617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0D627A-CADD-4D70-A264-B193CB7C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668C2D-5549-4310-B12D-7E05AB24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F92EF6-6F4B-41C8-BF81-C231F977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3160CD-48E3-4EDF-95E0-BC14736D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2C426C-5A95-49FA-8820-18C61991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4EA13-4865-40B5-BE94-43B99B18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2483B8-4FF3-4126-BF7F-B2DF7EF178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4C6F13-A579-4B3D-835C-1134CF7F0B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70D093-07C3-489A-A645-47DB3ACF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3350D6-CCB3-4868-8EAA-D01230B7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ADFCFC-DB9B-456D-9F23-B023391F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0656AF-DD02-417D-A16B-2384FD4AF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72F6C1-D4DE-4EE9-BD97-6E373E31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E39378-F6DA-43BA-8A85-D7130417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2E75CF-28F2-4F31-94F5-DBD1475E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851007-8CA4-4414-A686-2F0DE073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E4A2E-7B5D-4A0C-963D-B2AF589F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434347-7FCF-40EE-B8B5-2516FBC9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256D98-DD61-46E7-9272-6EA4B95C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315F9E-9138-45DE-AEE6-4508D9E0FB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6FB67-04D6-4662-81EB-1212270070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39EB1-B199-48E2-99BC-BCA8276C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F44A7-17D3-4592-A7DB-1FC52642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C1BAC-64DF-4F35-95B9-9AA67832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052A3-B684-4A1D-8B4E-105DAEAF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5491D-DE19-4097-8AA5-C288EED4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6898A-712E-4FB9-A1A9-E3B87113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4E4D7-D9F6-499F-9847-E4839CE2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14E15-CB14-45BA-9094-8EAA8A96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01D7A-981E-4767-9226-7CC42DB3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FC1E6-4361-4D82-A458-E27F7C76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22241-EC95-486E-954C-B89DC865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25309-0655-4053-A1BA-96072FE260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F887B4-67F8-4C54-B3AF-6912FE5DA0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DD442F-622A-4423-B60D-BC0B390F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DD15BE-F544-44D8-A4EF-ADFA5709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48A614-DA10-447C-8397-34DA5E54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3EA028-7E92-4163-B911-31F87FE2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427EE-EFF7-4616-83C5-DD065849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66B883-2B66-4424-A161-5D908BC8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B5CDA9-C7FE-4584-B4FC-B3DD5A1A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C6CBC7-422B-42F1-8539-C8880A1D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5A9C9B-266A-44D8-A740-1E189194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2B0224-424C-435E-8CE3-4CA626E1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41B220-1FAF-4238-B69D-30322151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53B455-5D81-4767-8A80-1B97C2F610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2D6918-9F9F-4D60-80F6-F6EDDA24AF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80A729-0C1B-4093-936D-640CADF1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E84B73-6DE5-43D4-A217-0703C871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6676-CDF9-406B-B8B7-E43679B9479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83CE-9DD0-47AE-82A6-10E02B81D9C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E28D-A949-4DC4-BAAB-63D7745C6B8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9D1B-574A-4AE1-9F30-BE05EBBD32B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2E0D-E896-4949-8676-32AA12551AB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4C51-568E-4267-A070-AB3BC3EB204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A97E-8BD9-416C-8AE8-FEFC0A79A33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7177-D331-495B-9346-CC25ADC46EC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3128-CEB1-4B42-8997-50C532316E2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4656-90A6-4AAB-BE7A-494BEE4E688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F96D-459E-4807-9794-1F64A165E9B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3604-F801-4965-9590-E426D6E2C11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11DD-20DB-4BEE-9766-30A24ED1214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CF0C-46A3-4C24-9D6C-BF1029687E3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03D2-7522-487B-973B-030C7C375E7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88D2-F087-4475-B5EC-743F5AEAE4F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565A-6BF4-4755-A653-7F08E820723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8469-5F1D-4974-AF10-66306E1DA47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3660-A401-46E4-A3EC-12277933A82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E036-38F4-4DA4-BA77-AEC12D0F36D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02AC-C2AD-475A-A821-9A45CE885E0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BDE0-6A6F-4150-BDC4-BC532E5DB3A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1C02-94DD-4C67-8CB6-35E9988F470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11B1-B484-47B9-9093-149927261E7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511360" y="2676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笔 算 乘 法（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929120" cy="360"/>
            <a:chOff x="2284560" y="2448000"/>
            <a:chExt cx="492912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92912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929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311040" y="1744560"/>
            <a:ext cx="748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位数乘两位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Box 10"/>
          <p:cNvSpPr/>
          <p:nvPr/>
        </p:nvSpPr>
        <p:spPr>
          <a:xfrm>
            <a:off x="428760" y="139680"/>
            <a:ext cx="3214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复习引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9"/>
          <p:cNvSpPr/>
          <p:nvPr/>
        </p:nvSpPr>
        <p:spPr>
          <a:xfrm>
            <a:off x="285840" y="23511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黑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8"/>
          <p:cNvSpPr/>
          <p:nvPr/>
        </p:nvSpPr>
        <p:spPr>
          <a:xfrm>
            <a:off x="428760" y="1498680"/>
            <a:ext cx="381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口算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179"/>
          <p:cNvSpPr/>
          <p:nvPr/>
        </p:nvSpPr>
        <p:spPr>
          <a:xfrm>
            <a:off x="1428840" y="221292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9"/>
          <p:cNvSpPr/>
          <p:nvPr/>
        </p:nvSpPr>
        <p:spPr>
          <a:xfrm>
            <a:off x="2286000" y="234648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179"/>
          <p:cNvSpPr/>
          <p:nvPr/>
        </p:nvSpPr>
        <p:spPr>
          <a:xfrm>
            <a:off x="3571920" y="221292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9"/>
          <p:cNvSpPr/>
          <p:nvPr/>
        </p:nvSpPr>
        <p:spPr>
          <a:xfrm>
            <a:off x="4572000" y="234648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黑体"/>
              </a:rPr>
              <a:t>1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79"/>
          <p:cNvSpPr/>
          <p:nvPr/>
        </p:nvSpPr>
        <p:spPr>
          <a:xfrm>
            <a:off x="5643720" y="221292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9"/>
          <p:cNvSpPr/>
          <p:nvPr/>
        </p:nvSpPr>
        <p:spPr>
          <a:xfrm>
            <a:off x="6643800" y="234648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黑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179"/>
          <p:cNvSpPr/>
          <p:nvPr/>
        </p:nvSpPr>
        <p:spPr>
          <a:xfrm>
            <a:off x="7929720" y="221292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9"/>
          <p:cNvSpPr/>
          <p:nvPr/>
        </p:nvSpPr>
        <p:spPr>
          <a:xfrm>
            <a:off x="285840" y="335124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黑体"/>
              </a:rPr>
              <a:t>14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179"/>
          <p:cNvSpPr/>
          <p:nvPr/>
        </p:nvSpPr>
        <p:spPr>
          <a:xfrm>
            <a:off x="1549440" y="321300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9"/>
          <p:cNvSpPr/>
          <p:nvPr/>
        </p:nvSpPr>
        <p:spPr>
          <a:xfrm>
            <a:off x="2357280" y="33465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179"/>
          <p:cNvSpPr/>
          <p:nvPr/>
        </p:nvSpPr>
        <p:spPr>
          <a:xfrm>
            <a:off x="3429000" y="321300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4643280" y="33465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黑体"/>
              </a:rPr>
              <a:t>2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179"/>
          <p:cNvSpPr/>
          <p:nvPr/>
        </p:nvSpPr>
        <p:spPr>
          <a:xfrm>
            <a:off x="5857920" y="320832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9"/>
          <p:cNvSpPr/>
          <p:nvPr/>
        </p:nvSpPr>
        <p:spPr>
          <a:xfrm>
            <a:off x="6715080" y="33465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黑体"/>
              </a:rPr>
              <a:t>13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179"/>
          <p:cNvSpPr/>
          <p:nvPr/>
        </p:nvSpPr>
        <p:spPr>
          <a:xfrm>
            <a:off x="8143920" y="321300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组合 2"/>
          <p:cNvGrpSpPr/>
          <p:nvPr/>
        </p:nvGrpSpPr>
        <p:grpSpPr>
          <a:xfrm>
            <a:off x="34920" y="115920"/>
            <a:ext cx="3244680" cy="525600"/>
            <a:chOff x="34920" y="115920"/>
            <a:chExt cx="3244680" cy="525600"/>
          </a:xfrm>
        </p:grpSpPr>
        <p:pic>
          <p:nvPicPr>
            <p:cNvPr id="102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85400" y="1159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9" name="组合 4"/>
            <p:cNvGrpSpPr/>
            <p:nvPr/>
          </p:nvGrpSpPr>
          <p:grpSpPr>
            <a:xfrm>
              <a:off x="34920" y="210960"/>
              <a:ext cx="429840" cy="273600"/>
              <a:chOff x="34920" y="210960"/>
              <a:chExt cx="429840" cy="273600"/>
            </a:xfrm>
          </p:grpSpPr>
          <p:sp>
            <p:nvSpPr>
              <p:cNvPr id="1030" name="椭圆 11"/>
              <p:cNvSpPr/>
              <p:nvPr/>
            </p:nvSpPr>
            <p:spPr>
              <a:xfrm rot="16200000">
                <a:off x="277560" y="3751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1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53080" y="3380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2" name="椭圆 29"/>
              <p:cNvSpPr/>
              <p:nvPr/>
            </p:nvSpPr>
            <p:spPr>
              <a:xfrm rot="16200000">
                <a:off x="277560" y="2484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53080" y="2253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34920" y="3546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34920" y="3261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34920" y="2390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34920" y="2109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38" name=""/>
          <p:cNvSpPr txBox="1"/>
          <p:nvPr/>
        </p:nvSpPr>
        <p:spPr>
          <a:xfrm>
            <a:off x="428760" y="641160"/>
            <a:ext cx="8229600" cy="12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李叔叔从某城市乘火车去北京用了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小时，火车每小时行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45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千米。该城市到北京有多少千米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Box 10"/>
          <p:cNvSpPr/>
          <p:nvPr/>
        </p:nvSpPr>
        <p:spPr>
          <a:xfrm>
            <a:off x="501480" y="142920"/>
            <a:ext cx="3071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自主探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八边形 7"/>
          <p:cNvSpPr/>
          <p:nvPr/>
        </p:nvSpPr>
        <p:spPr>
          <a:xfrm>
            <a:off x="385920" y="708120"/>
            <a:ext cx="5220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组合 1"/>
          <p:cNvGrpSpPr/>
          <p:nvPr/>
        </p:nvGrpSpPr>
        <p:grpSpPr>
          <a:xfrm>
            <a:off x="568440" y="2060640"/>
            <a:ext cx="1883880" cy="459720"/>
            <a:chOff x="568440" y="2060640"/>
            <a:chExt cx="1883880" cy="459720"/>
          </a:xfrm>
        </p:grpSpPr>
        <p:sp>
          <p:nvSpPr>
            <p:cNvPr id="1042" name="TextBox 3"/>
            <p:cNvSpPr/>
            <p:nvPr/>
          </p:nvSpPr>
          <p:spPr>
            <a:xfrm>
              <a:off x="672840" y="206064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理解题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缺角矩形 37"/>
            <p:cNvSpPr/>
            <p:nvPr/>
          </p:nvSpPr>
          <p:spPr>
            <a:xfrm>
              <a:off x="568440" y="218124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文本框 3"/>
          <p:cNvSpPr/>
          <p:nvPr/>
        </p:nvSpPr>
        <p:spPr>
          <a:xfrm>
            <a:off x="828720" y="2527200"/>
            <a:ext cx="823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火车每小时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千米，行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，求该城市到北京有多少千米，也就是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千米是多少，用乘法计算，列式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38"/>
          <p:cNvGrpSpPr/>
          <p:nvPr/>
        </p:nvGrpSpPr>
        <p:grpSpPr>
          <a:xfrm>
            <a:off x="561960" y="3887640"/>
            <a:ext cx="2149560" cy="459720"/>
            <a:chOff x="561960" y="3887640"/>
            <a:chExt cx="2149560" cy="459720"/>
          </a:xfrm>
        </p:grpSpPr>
        <p:sp>
          <p:nvSpPr>
            <p:cNvPr id="1046" name="TextBox 3"/>
            <p:cNvSpPr/>
            <p:nvPr/>
          </p:nvSpPr>
          <p:spPr>
            <a:xfrm>
              <a:off x="666720" y="3887640"/>
              <a:ext cx="204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解法探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缺角矩形 40"/>
            <p:cNvSpPr/>
            <p:nvPr/>
          </p:nvSpPr>
          <p:spPr>
            <a:xfrm>
              <a:off x="561960" y="4008240"/>
              <a:ext cx="216000" cy="215640"/>
            </a:xfrm>
            <a:custGeom>
              <a:avLst/>
              <a:gdLst>
                <a:gd name="textAreaLeft" fmla="*/ 25200 w 216000"/>
                <a:gd name="textAreaRight" fmla="*/ 190800 w 21600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36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36" y="21600"/>
                  </a:lnTo>
                  <a:arcTo wR="3600" hR="3600" stAng="10800000" swAng="5400000"/>
                  <a:lnTo>
                    <a:pt x="21636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8" name="文本框 6"/>
          <p:cNvSpPr/>
          <p:nvPr/>
        </p:nvSpPr>
        <p:spPr>
          <a:xfrm>
            <a:off x="777960" y="4259160"/>
            <a:ext cx="78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估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看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看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那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≈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9" name="组合 2"/>
          <p:cNvGrpSpPr/>
          <p:nvPr/>
        </p:nvGrpSpPr>
        <p:grpSpPr>
          <a:xfrm>
            <a:off x="34920" y="115920"/>
            <a:ext cx="3244680" cy="525600"/>
            <a:chOff x="34920" y="115920"/>
            <a:chExt cx="3244680" cy="525600"/>
          </a:xfrm>
        </p:grpSpPr>
        <p:pic>
          <p:nvPicPr>
            <p:cNvPr id="105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85400" y="1159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1" name="组合 4"/>
            <p:cNvGrpSpPr/>
            <p:nvPr/>
          </p:nvGrpSpPr>
          <p:grpSpPr>
            <a:xfrm>
              <a:off x="34920" y="210960"/>
              <a:ext cx="429840" cy="273600"/>
              <a:chOff x="34920" y="210960"/>
              <a:chExt cx="429840" cy="273600"/>
            </a:xfrm>
          </p:grpSpPr>
          <p:sp>
            <p:nvSpPr>
              <p:cNvPr id="1052" name="椭圆 11"/>
              <p:cNvSpPr/>
              <p:nvPr/>
            </p:nvSpPr>
            <p:spPr>
              <a:xfrm rot="16200000">
                <a:off x="277560" y="3751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53080" y="3380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椭圆 29"/>
              <p:cNvSpPr/>
              <p:nvPr/>
            </p:nvSpPr>
            <p:spPr>
              <a:xfrm rot="16200000">
                <a:off x="277560" y="2484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53080" y="2253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34920" y="3546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34920" y="3261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34920" y="2390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34920" y="2109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0" name="TextBox 10"/>
          <p:cNvSpPr/>
          <p:nvPr/>
        </p:nvSpPr>
        <p:spPr>
          <a:xfrm>
            <a:off x="501480" y="142920"/>
            <a:ext cx="3071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自主探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文本框 1"/>
          <p:cNvSpPr/>
          <p:nvPr/>
        </p:nvSpPr>
        <p:spPr>
          <a:xfrm>
            <a:off x="507960" y="822240"/>
            <a:ext cx="83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列竖式计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1017720" y="2452680"/>
            <a:ext cx="2016000" cy="360"/>
            <a:chOff x="1017720" y="2452680"/>
            <a:chExt cx="2016000" cy="360"/>
          </a:xfrm>
        </p:grpSpPr>
        <p:sp>
          <p:nvSpPr>
            <p:cNvPr id="1063" name="Line 4"/>
            <p:cNvSpPr/>
            <p:nvPr/>
          </p:nvSpPr>
          <p:spPr>
            <a:xfrm>
              <a:off x="1017720" y="2452680"/>
              <a:ext cx="2016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 txBox="1"/>
            <p:nvPr/>
          </p:nvSpPr>
          <p:spPr>
            <a:xfrm>
              <a:off x="1017720" y="2452680"/>
              <a:ext cx="20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Text Box 5"/>
          <p:cNvSpPr/>
          <p:nvPr/>
        </p:nvSpPr>
        <p:spPr>
          <a:xfrm>
            <a:off x="1449360" y="2523960"/>
            <a:ext cx="24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  9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6"/>
          <p:cNvSpPr/>
          <p:nvPr/>
        </p:nvSpPr>
        <p:spPr>
          <a:xfrm>
            <a:off x="1436760" y="1368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  4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7"/>
          <p:cNvSpPr/>
          <p:nvPr/>
        </p:nvSpPr>
        <p:spPr>
          <a:xfrm>
            <a:off x="1017720" y="1947960"/>
            <a:ext cx="4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8"/>
          <p:cNvSpPr/>
          <p:nvPr/>
        </p:nvSpPr>
        <p:spPr>
          <a:xfrm>
            <a:off x="1868400" y="18763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9"/>
          <p:cNvSpPr/>
          <p:nvPr/>
        </p:nvSpPr>
        <p:spPr>
          <a:xfrm>
            <a:off x="1004760" y="2955960"/>
            <a:ext cx="30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  4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017720" y="3532320"/>
            <a:ext cx="2016000" cy="360"/>
            <a:chOff x="1017720" y="3532320"/>
            <a:chExt cx="2016000" cy="360"/>
          </a:xfrm>
        </p:grpSpPr>
        <p:sp>
          <p:nvSpPr>
            <p:cNvPr id="1071" name="Line 10"/>
            <p:cNvSpPr/>
            <p:nvPr/>
          </p:nvSpPr>
          <p:spPr>
            <a:xfrm>
              <a:off x="1017720" y="3532320"/>
              <a:ext cx="2016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 txBox="1"/>
            <p:nvPr/>
          </p:nvSpPr>
          <p:spPr>
            <a:xfrm>
              <a:off x="1017720" y="3532320"/>
              <a:ext cx="20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" name="Text Box 11"/>
          <p:cNvSpPr/>
          <p:nvPr/>
        </p:nvSpPr>
        <p:spPr>
          <a:xfrm>
            <a:off x="1006560" y="3529080"/>
            <a:ext cx="18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  7  4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2947680" y="2811600"/>
            <a:ext cx="576720" cy="360"/>
            <a:chOff x="2947680" y="2811600"/>
            <a:chExt cx="576720" cy="360"/>
          </a:xfrm>
        </p:grpSpPr>
        <p:sp>
          <p:nvSpPr>
            <p:cNvPr id="1075" name="Line 12"/>
            <p:cNvSpPr/>
            <p:nvPr/>
          </p:nvSpPr>
          <p:spPr>
            <a:xfrm flipH="1">
              <a:off x="2947680" y="2811600"/>
              <a:ext cx="576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 txBox="1"/>
            <p:nvPr/>
          </p:nvSpPr>
          <p:spPr>
            <a:xfrm>
              <a:off x="2948040" y="28116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7" name="Text Box 13"/>
          <p:cNvSpPr/>
          <p:nvPr/>
        </p:nvSpPr>
        <p:spPr>
          <a:xfrm>
            <a:off x="3906000" y="2511360"/>
            <a:ext cx="31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用个位上的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去乘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947680" y="3313080"/>
            <a:ext cx="576720" cy="360"/>
            <a:chOff x="2947680" y="3313080"/>
            <a:chExt cx="576720" cy="360"/>
          </a:xfrm>
        </p:grpSpPr>
        <p:sp>
          <p:nvSpPr>
            <p:cNvPr id="1079" name="Line 14"/>
            <p:cNvSpPr/>
            <p:nvPr/>
          </p:nvSpPr>
          <p:spPr>
            <a:xfrm flipH="1">
              <a:off x="2947680" y="3313080"/>
              <a:ext cx="576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 txBox="1"/>
            <p:nvPr/>
          </p:nvSpPr>
          <p:spPr>
            <a:xfrm>
              <a:off x="2948040" y="331308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1" name="Text Box 15"/>
          <p:cNvSpPr/>
          <p:nvPr/>
        </p:nvSpPr>
        <p:spPr>
          <a:xfrm>
            <a:off x="3993120" y="3013200"/>
            <a:ext cx="29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用十位上的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去乘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16"/>
          <p:cNvSpPr/>
          <p:nvPr/>
        </p:nvSpPr>
        <p:spPr>
          <a:xfrm>
            <a:off x="2325600" y="18763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2947680" y="3817800"/>
            <a:ext cx="576720" cy="360"/>
            <a:chOff x="2947680" y="3817800"/>
            <a:chExt cx="576720" cy="360"/>
          </a:xfrm>
        </p:grpSpPr>
        <p:sp>
          <p:nvSpPr>
            <p:cNvPr id="1084" name="Line 21"/>
            <p:cNvSpPr/>
            <p:nvPr/>
          </p:nvSpPr>
          <p:spPr>
            <a:xfrm flipH="1">
              <a:off x="2947680" y="3817800"/>
              <a:ext cx="576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 txBox="1"/>
            <p:nvPr/>
          </p:nvSpPr>
          <p:spPr>
            <a:xfrm>
              <a:off x="2948040" y="38178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6" name="Text Box 22"/>
          <p:cNvSpPr/>
          <p:nvPr/>
        </p:nvSpPr>
        <p:spPr>
          <a:xfrm>
            <a:off x="4136040" y="3517920"/>
            <a:ext cx="20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所得的积加起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"/>
                            </p:stCondLst>
                            <p:childTnLst>
                              <p:par>
                                <p:cTn id="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"/>
                            </p:stCondLst>
                            <p:childTnLst>
                              <p:par>
                                <p:cTn id="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"/>
                            </p:stCondLst>
                            <p:childTnLst>
                              <p:par>
                                <p:cTn id="6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"/>
                            </p:stCondLst>
                            <p:childTnLst>
                              <p:par>
                                <p:cTn id="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"/>
                            </p:stCondLst>
                            <p:childTnLst>
                              <p:par>
                                <p:cTn id="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"/>
                            </p:stCondLst>
                            <p:childTnLst>
                              <p:par>
                                <p:cTn id="8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TextBox 3"/>
          <p:cNvSpPr/>
          <p:nvPr/>
        </p:nvSpPr>
        <p:spPr>
          <a:xfrm>
            <a:off x="642960" y="657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计算中“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为什么同十位对齐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Box 7"/>
          <p:cNvSpPr/>
          <p:nvPr/>
        </p:nvSpPr>
        <p:spPr>
          <a:xfrm>
            <a:off x="642960" y="31719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计算中十位上为什么是“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呢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Box 10"/>
          <p:cNvSpPr/>
          <p:nvPr/>
        </p:nvSpPr>
        <p:spPr>
          <a:xfrm>
            <a:off x="785880" y="1514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第二个因数十位上的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表示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个十，去乘另一个因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的个位时，得到的积表示几个十，因此要同十位对齐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Box 11"/>
          <p:cNvSpPr/>
          <p:nvPr/>
        </p:nvSpPr>
        <p:spPr>
          <a:xfrm>
            <a:off x="1085760" y="3871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计算中，哪一位满了几十，就要向前一位进几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1" name="组合 84"/>
          <p:cNvGrpSpPr/>
          <p:nvPr/>
        </p:nvGrpSpPr>
        <p:grpSpPr>
          <a:xfrm>
            <a:off x="419040" y="1927080"/>
            <a:ext cx="1428840" cy="914400"/>
            <a:chOff x="419040" y="1927080"/>
            <a:chExt cx="1428840" cy="914400"/>
          </a:xfrm>
        </p:grpSpPr>
        <p:sp>
          <p:nvSpPr>
            <p:cNvPr id="1092" name="TextBox 29"/>
            <p:cNvSpPr/>
            <p:nvPr/>
          </p:nvSpPr>
          <p:spPr>
            <a:xfrm>
              <a:off x="419040" y="192708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2  6 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1  3 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1  6  0 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3" name=""/>
            <p:cNvGrpSpPr/>
            <p:nvPr/>
          </p:nvGrpSpPr>
          <p:grpSpPr>
            <a:xfrm>
              <a:off x="441000" y="2746440"/>
              <a:ext cx="1406880" cy="360"/>
              <a:chOff x="441000" y="2746440"/>
              <a:chExt cx="1406880" cy="360"/>
            </a:xfrm>
          </p:grpSpPr>
          <p:sp>
            <p:nvSpPr>
              <p:cNvPr id="1094" name="直接连接符 40"/>
              <p:cNvSpPr/>
              <p:nvPr/>
            </p:nvSpPr>
            <p:spPr>
              <a:xfrm>
                <a:off x="441000" y="2746440"/>
                <a:ext cx="140688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 txBox="1"/>
              <p:nvPr/>
            </p:nvSpPr>
            <p:spPr>
              <a:xfrm>
                <a:off x="441000" y="2746440"/>
                <a:ext cx="1406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6" name="组合 86"/>
          <p:cNvGrpSpPr/>
          <p:nvPr/>
        </p:nvGrpSpPr>
        <p:grpSpPr>
          <a:xfrm>
            <a:off x="4491000" y="1927080"/>
            <a:ext cx="1787400" cy="914400"/>
            <a:chOff x="4491000" y="1927080"/>
            <a:chExt cx="1787400" cy="914400"/>
          </a:xfrm>
        </p:grpSpPr>
        <p:sp>
          <p:nvSpPr>
            <p:cNvPr id="1097" name="TextBox 44"/>
            <p:cNvSpPr/>
            <p:nvPr/>
          </p:nvSpPr>
          <p:spPr>
            <a:xfrm>
              <a:off x="4493160" y="1927080"/>
              <a:ext cx="9140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2  5  5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1  2  7  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1  5  3  0  0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8" name=""/>
            <p:cNvGrpSpPr/>
            <p:nvPr/>
          </p:nvGrpSpPr>
          <p:grpSpPr>
            <a:xfrm>
              <a:off x="4491000" y="2746440"/>
              <a:ext cx="1787400" cy="360"/>
              <a:chOff x="4491000" y="2746440"/>
              <a:chExt cx="1787400" cy="360"/>
            </a:xfrm>
          </p:grpSpPr>
          <p:sp>
            <p:nvSpPr>
              <p:cNvPr id="1099" name="直接连接符 46"/>
              <p:cNvSpPr/>
              <p:nvPr/>
            </p:nvSpPr>
            <p:spPr>
              <a:xfrm>
                <a:off x="4491000" y="2746440"/>
                <a:ext cx="178740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 txBox="1"/>
              <p:nvPr/>
            </p:nvSpPr>
            <p:spPr>
              <a:xfrm>
                <a:off x="4491000" y="2746440"/>
                <a:ext cx="1787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1" name="组合 85"/>
          <p:cNvGrpSpPr/>
          <p:nvPr/>
        </p:nvGrpSpPr>
        <p:grpSpPr>
          <a:xfrm>
            <a:off x="2486160" y="1927080"/>
            <a:ext cx="1406520" cy="914400"/>
            <a:chOff x="2486160" y="1927080"/>
            <a:chExt cx="1406520" cy="914400"/>
          </a:xfrm>
        </p:grpSpPr>
        <p:sp>
          <p:nvSpPr>
            <p:cNvPr id="1102" name="TextBox 32"/>
            <p:cNvSpPr/>
            <p:nvPr/>
          </p:nvSpPr>
          <p:spPr>
            <a:xfrm>
              <a:off x="2488320" y="192708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1  2  3  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7  0 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8  2  7  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3" name=""/>
            <p:cNvGrpSpPr/>
            <p:nvPr/>
          </p:nvGrpSpPr>
          <p:grpSpPr>
            <a:xfrm>
              <a:off x="2486160" y="2746440"/>
              <a:ext cx="1406520" cy="360"/>
              <a:chOff x="2486160" y="2746440"/>
              <a:chExt cx="1406520" cy="360"/>
            </a:xfrm>
          </p:grpSpPr>
          <p:sp>
            <p:nvSpPr>
              <p:cNvPr id="1104" name="直接连接符 55"/>
              <p:cNvSpPr/>
              <p:nvPr/>
            </p:nvSpPr>
            <p:spPr>
              <a:xfrm>
                <a:off x="2486160" y="2746440"/>
                <a:ext cx="140652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 txBox="1"/>
              <p:nvPr/>
            </p:nvSpPr>
            <p:spPr>
              <a:xfrm>
                <a:off x="2486160" y="2746440"/>
                <a:ext cx="1406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6" name="组合 87"/>
          <p:cNvGrpSpPr/>
          <p:nvPr/>
        </p:nvGrpSpPr>
        <p:grpSpPr>
          <a:xfrm>
            <a:off x="6845400" y="1927080"/>
            <a:ext cx="1788840" cy="914400"/>
            <a:chOff x="6845400" y="1927080"/>
            <a:chExt cx="1788840" cy="914400"/>
          </a:xfrm>
        </p:grpSpPr>
        <p:sp>
          <p:nvSpPr>
            <p:cNvPr id="1107" name="TextBox 60"/>
            <p:cNvSpPr/>
            <p:nvPr/>
          </p:nvSpPr>
          <p:spPr>
            <a:xfrm>
              <a:off x="6847560" y="1927080"/>
              <a:ext cx="9147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4  7 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1  8  9  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1  9  4  3  4</a:t>
              </a: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6845400" y="2746440"/>
              <a:ext cx="1788840" cy="360"/>
              <a:chOff x="6845400" y="2746440"/>
              <a:chExt cx="1788840" cy="360"/>
            </a:xfrm>
          </p:grpSpPr>
          <p:sp>
            <p:nvSpPr>
              <p:cNvPr id="1109" name="直接连接符 62"/>
              <p:cNvSpPr/>
              <p:nvPr/>
            </p:nvSpPr>
            <p:spPr>
              <a:xfrm>
                <a:off x="6845400" y="2746440"/>
                <a:ext cx="178884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 txBox="1"/>
              <p:nvPr/>
            </p:nvSpPr>
            <p:spPr>
              <a:xfrm>
                <a:off x="6845400" y="2746440"/>
                <a:ext cx="1788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1" name="组合 88"/>
          <p:cNvGrpSpPr/>
          <p:nvPr/>
        </p:nvGrpSpPr>
        <p:grpSpPr>
          <a:xfrm>
            <a:off x="419040" y="4570560"/>
            <a:ext cx="1428840" cy="914400"/>
            <a:chOff x="419040" y="4570560"/>
            <a:chExt cx="1428840" cy="914400"/>
          </a:xfrm>
        </p:grpSpPr>
        <p:sp>
          <p:nvSpPr>
            <p:cNvPr id="1112" name="TextBox 64"/>
            <p:cNvSpPr/>
            <p:nvPr/>
          </p:nvSpPr>
          <p:spPr>
            <a:xfrm>
              <a:off x="419040" y="457056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1  2  8 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6  4 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7  7  2 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3" name=""/>
            <p:cNvGrpSpPr/>
            <p:nvPr/>
          </p:nvGrpSpPr>
          <p:grpSpPr>
            <a:xfrm>
              <a:off x="441000" y="5389920"/>
              <a:ext cx="1406880" cy="360"/>
              <a:chOff x="441000" y="5389920"/>
              <a:chExt cx="1406880" cy="360"/>
            </a:xfrm>
          </p:grpSpPr>
          <p:sp>
            <p:nvSpPr>
              <p:cNvPr id="1114" name="直接连接符 66"/>
              <p:cNvSpPr/>
              <p:nvPr/>
            </p:nvSpPr>
            <p:spPr>
              <a:xfrm>
                <a:off x="441000" y="5389920"/>
                <a:ext cx="140688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 txBox="1"/>
              <p:nvPr/>
            </p:nvSpPr>
            <p:spPr>
              <a:xfrm>
                <a:off x="441000" y="5389920"/>
                <a:ext cx="1406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6" name="组合 89"/>
          <p:cNvGrpSpPr/>
          <p:nvPr/>
        </p:nvGrpSpPr>
        <p:grpSpPr>
          <a:xfrm>
            <a:off x="2486160" y="4570560"/>
            <a:ext cx="1406520" cy="914400"/>
            <a:chOff x="2486160" y="4570560"/>
            <a:chExt cx="1406520" cy="914400"/>
          </a:xfrm>
        </p:grpSpPr>
        <p:sp>
          <p:nvSpPr>
            <p:cNvPr id="1117" name="TextBox 65"/>
            <p:cNvSpPr/>
            <p:nvPr/>
          </p:nvSpPr>
          <p:spPr>
            <a:xfrm>
              <a:off x="2488320" y="457056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1  0  1  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2  9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3  9  1  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8" name=""/>
            <p:cNvGrpSpPr/>
            <p:nvPr/>
          </p:nvGrpSpPr>
          <p:grpSpPr>
            <a:xfrm>
              <a:off x="2486160" y="5389920"/>
              <a:ext cx="1406520" cy="360"/>
              <a:chOff x="2486160" y="5389920"/>
              <a:chExt cx="1406520" cy="360"/>
            </a:xfrm>
          </p:grpSpPr>
          <p:sp>
            <p:nvSpPr>
              <p:cNvPr id="1119" name="直接连接符 68"/>
              <p:cNvSpPr/>
              <p:nvPr/>
            </p:nvSpPr>
            <p:spPr>
              <a:xfrm>
                <a:off x="2486160" y="5389920"/>
                <a:ext cx="140652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 txBox="1"/>
              <p:nvPr/>
            </p:nvSpPr>
            <p:spPr>
              <a:xfrm>
                <a:off x="2486160" y="5389920"/>
                <a:ext cx="1406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1" name="组合 90"/>
          <p:cNvGrpSpPr/>
          <p:nvPr/>
        </p:nvGrpSpPr>
        <p:grpSpPr>
          <a:xfrm>
            <a:off x="4632480" y="4570560"/>
            <a:ext cx="1406520" cy="914400"/>
            <a:chOff x="4632480" y="4570560"/>
            <a:chExt cx="1406520" cy="914400"/>
          </a:xfrm>
        </p:grpSpPr>
        <p:sp>
          <p:nvSpPr>
            <p:cNvPr id="1122" name="TextBox 69"/>
            <p:cNvSpPr/>
            <p:nvPr/>
          </p:nvSpPr>
          <p:spPr>
            <a:xfrm>
              <a:off x="4634640" y="457056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2  0  3  7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6  7  9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8  8  2  7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"/>
            <p:cNvGrpSpPr/>
            <p:nvPr/>
          </p:nvGrpSpPr>
          <p:grpSpPr>
            <a:xfrm>
              <a:off x="4632480" y="5389920"/>
              <a:ext cx="1406520" cy="360"/>
              <a:chOff x="4632480" y="5389920"/>
              <a:chExt cx="1406520" cy="360"/>
            </a:xfrm>
          </p:grpSpPr>
          <p:sp>
            <p:nvSpPr>
              <p:cNvPr id="1124" name="直接连接符 71"/>
              <p:cNvSpPr/>
              <p:nvPr/>
            </p:nvSpPr>
            <p:spPr>
              <a:xfrm>
                <a:off x="4632480" y="5389920"/>
                <a:ext cx="140652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 txBox="1"/>
              <p:nvPr/>
            </p:nvSpPr>
            <p:spPr>
              <a:xfrm>
                <a:off x="4632480" y="5389920"/>
                <a:ext cx="1406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6" name="组合 92"/>
          <p:cNvGrpSpPr/>
          <p:nvPr/>
        </p:nvGrpSpPr>
        <p:grpSpPr>
          <a:xfrm>
            <a:off x="276120" y="1069920"/>
            <a:ext cx="8358120" cy="3557520"/>
            <a:chOff x="276120" y="1069920"/>
            <a:chExt cx="8358120" cy="3557520"/>
          </a:xfrm>
        </p:grpSpPr>
        <p:grpSp>
          <p:nvGrpSpPr>
            <p:cNvPr id="1127" name="组合 75"/>
            <p:cNvGrpSpPr/>
            <p:nvPr/>
          </p:nvGrpSpPr>
          <p:grpSpPr>
            <a:xfrm>
              <a:off x="418680" y="1069920"/>
              <a:ext cx="1428480" cy="914400"/>
              <a:chOff x="418680" y="1069920"/>
              <a:chExt cx="1428480" cy="914400"/>
            </a:xfrm>
          </p:grpSpPr>
          <p:sp>
            <p:nvSpPr>
              <p:cNvPr id="1128" name="TextBox 6"/>
              <p:cNvSpPr/>
              <p:nvPr/>
            </p:nvSpPr>
            <p:spPr>
              <a:xfrm>
                <a:off x="418680" y="1069920"/>
                <a:ext cx="91440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1  3  4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×    1  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9" name=""/>
              <p:cNvGrpSpPr/>
              <p:nvPr/>
            </p:nvGrpSpPr>
            <p:grpSpPr>
              <a:xfrm>
                <a:off x="445320" y="1927440"/>
                <a:ext cx="1401840" cy="360"/>
                <a:chOff x="445320" y="1927440"/>
                <a:chExt cx="1401840" cy="360"/>
              </a:xfrm>
            </p:grpSpPr>
            <p:sp>
              <p:nvSpPr>
                <p:cNvPr id="1130" name="直接连接符 8"/>
                <p:cNvSpPr/>
                <p:nvPr/>
              </p:nvSpPr>
              <p:spPr>
                <a:xfrm>
                  <a:off x="445320" y="1927440"/>
                  <a:ext cx="1401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 txBox="1"/>
                <p:nvPr/>
              </p:nvSpPr>
              <p:spPr>
                <a:xfrm>
                  <a:off x="445320" y="1927440"/>
                  <a:ext cx="140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2" name="组合 77"/>
            <p:cNvGrpSpPr/>
            <p:nvPr/>
          </p:nvGrpSpPr>
          <p:grpSpPr>
            <a:xfrm>
              <a:off x="4493520" y="1069920"/>
              <a:ext cx="1785960" cy="914400"/>
              <a:chOff x="4493520" y="1069920"/>
              <a:chExt cx="1785960" cy="914400"/>
            </a:xfrm>
          </p:grpSpPr>
          <p:sp>
            <p:nvSpPr>
              <p:cNvPr id="1133" name="TextBox 17"/>
              <p:cNvSpPr/>
              <p:nvPr/>
            </p:nvSpPr>
            <p:spPr>
              <a:xfrm>
                <a:off x="4493520" y="1069920"/>
                <a:ext cx="91440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4  2  5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×        3  6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4" name=""/>
              <p:cNvGrpSpPr/>
              <p:nvPr/>
            </p:nvGrpSpPr>
            <p:grpSpPr>
              <a:xfrm>
                <a:off x="4495320" y="1927440"/>
                <a:ext cx="1784160" cy="360"/>
                <a:chOff x="4495320" y="1927440"/>
                <a:chExt cx="1784160" cy="360"/>
              </a:xfrm>
            </p:grpSpPr>
            <p:sp>
              <p:nvSpPr>
                <p:cNvPr id="1135" name="直接连接符 45"/>
                <p:cNvSpPr/>
                <p:nvPr/>
              </p:nvSpPr>
              <p:spPr>
                <a:xfrm>
                  <a:off x="4495320" y="1927440"/>
                  <a:ext cx="1784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 txBox="1"/>
                <p:nvPr/>
              </p:nvSpPr>
              <p:spPr>
                <a:xfrm>
                  <a:off x="4495320" y="1927440"/>
                  <a:ext cx="1784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7" name="组合 76"/>
            <p:cNvGrpSpPr/>
            <p:nvPr/>
          </p:nvGrpSpPr>
          <p:grpSpPr>
            <a:xfrm>
              <a:off x="2490480" y="1069920"/>
              <a:ext cx="1401840" cy="914400"/>
              <a:chOff x="2490480" y="1069920"/>
              <a:chExt cx="1401840" cy="914400"/>
            </a:xfrm>
          </p:grpSpPr>
          <p:sp>
            <p:nvSpPr>
              <p:cNvPr id="1138" name="TextBox 15"/>
              <p:cNvSpPr/>
              <p:nvPr/>
            </p:nvSpPr>
            <p:spPr>
              <a:xfrm>
                <a:off x="2490480" y="1069920"/>
                <a:ext cx="91440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1  7  6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×    4  7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9" name=""/>
              <p:cNvGrpSpPr/>
              <p:nvPr/>
            </p:nvGrpSpPr>
            <p:grpSpPr>
              <a:xfrm>
                <a:off x="2490480" y="1927440"/>
                <a:ext cx="1401840" cy="360"/>
                <a:chOff x="2490480" y="1927440"/>
                <a:chExt cx="1401840" cy="360"/>
              </a:xfrm>
            </p:grpSpPr>
            <p:sp>
              <p:nvSpPr>
                <p:cNvPr id="1140" name="直接连接符 54"/>
                <p:cNvSpPr/>
                <p:nvPr/>
              </p:nvSpPr>
              <p:spPr>
                <a:xfrm>
                  <a:off x="2490480" y="1927440"/>
                  <a:ext cx="1401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 txBox="1"/>
                <p:nvPr/>
              </p:nvSpPr>
              <p:spPr>
                <a:xfrm>
                  <a:off x="2490480" y="1927440"/>
                  <a:ext cx="140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2" name="组合 78"/>
            <p:cNvGrpSpPr/>
            <p:nvPr/>
          </p:nvGrpSpPr>
          <p:grpSpPr>
            <a:xfrm>
              <a:off x="6848280" y="1069920"/>
              <a:ext cx="1785960" cy="914400"/>
              <a:chOff x="6848280" y="1069920"/>
              <a:chExt cx="1785960" cy="914400"/>
            </a:xfrm>
          </p:grpSpPr>
          <p:sp>
            <p:nvSpPr>
              <p:cNvPr id="1143" name="TextBox 59"/>
              <p:cNvSpPr/>
              <p:nvPr/>
            </p:nvSpPr>
            <p:spPr>
              <a:xfrm>
                <a:off x="6848280" y="1069920"/>
                <a:ext cx="91440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2  3  7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×        8  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4" name=""/>
              <p:cNvGrpSpPr/>
              <p:nvPr/>
            </p:nvGrpSpPr>
            <p:grpSpPr>
              <a:xfrm>
                <a:off x="6850080" y="1927440"/>
                <a:ext cx="1784160" cy="360"/>
                <a:chOff x="6850080" y="1927440"/>
                <a:chExt cx="1784160" cy="360"/>
              </a:xfrm>
            </p:grpSpPr>
            <p:sp>
              <p:nvSpPr>
                <p:cNvPr id="1145" name="直接连接符 61"/>
                <p:cNvSpPr/>
                <p:nvPr/>
              </p:nvSpPr>
              <p:spPr>
                <a:xfrm>
                  <a:off x="6850080" y="1927440"/>
                  <a:ext cx="1784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 txBox="1"/>
                <p:nvPr/>
              </p:nvSpPr>
              <p:spPr>
                <a:xfrm>
                  <a:off x="6850080" y="1927440"/>
                  <a:ext cx="1784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7" name="组合 79"/>
            <p:cNvGrpSpPr/>
            <p:nvPr/>
          </p:nvGrpSpPr>
          <p:grpSpPr>
            <a:xfrm>
              <a:off x="276120" y="3713040"/>
              <a:ext cx="1571400" cy="914400"/>
              <a:chOff x="276120" y="3713040"/>
              <a:chExt cx="1571400" cy="914400"/>
            </a:xfrm>
          </p:grpSpPr>
          <p:sp>
            <p:nvSpPr>
              <p:cNvPr id="1148" name="TextBox 21"/>
              <p:cNvSpPr/>
              <p:nvPr/>
            </p:nvSpPr>
            <p:spPr>
              <a:xfrm>
                <a:off x="276120" y="3713040"/>
                <a:ext cx="91440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3  2  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×    2  4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9" name=""/>
              <p:cNvGrpSpPr/>
              <p:nvPr/>
            </p:nvGrpSpPr>
            <p:grpSpPr>
              <a:xfrm>
                <a:off x="445680" y="4570560"/>
                <a:ext cx="1401840" cy="360"/>
                <a:chOff x="445680" y="4570560"/>
                <a:chExt cx="1401840" cy="360"/>
              </a:xfrm>
            </p:grpSpPr>
            <p:sp>
              <p:nvSpPr>
                <p:cNvPr id="1150" name="直接连接符 63"/>
                <p:cNvSpPr/>
                <p:nvPr/>
              </p:nvSpPr>
              <p:spPr>
                <a:xfrm>
                  <a:off x="445680" y="4570560"/>
                  <a:ext cx="1401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 txBox="1"/>
                <p:nvPr/>
              </p:nvSpPr>
              <p:spPr>
                <a:xfrm>
                  <a:off x="445680" y="4570560"/>
                  <a:ext cx="140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2" name="组合 80"/>
            <p:cNvGrpSpPr/>
            <p:nvPr/>
          </p:nvGrpSpPr>
          <p:grpSpPr>
            <a:xfrm>
              <a:off x="2419200" y="3713040"/>
              <a:ext cx="1473120" cy="914400"/>
              <a:chOff x="2419200" y="3713040"/>
              <a:chExt cx="1473120" cy="914400"/>
            </a:xfrm>
          </p:grpSpPr>
          <p:sp>
            <p:nvSpPr>
              <p:cNvPr id="1153" name="TextBox 23"/>
              <p:cNvSpPr/>
              <p:nvPr/>
            </p:nvSpPr>
            <p:spPr>
              <a:xfrm>
                <a:off x="2419200" y="3713040"/>
                <a:ext cx="91440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1  4  5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×    2  7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4" name=""/>
              <p:cNvGrpSpPr/>
              <p:nvPr/>
            </p:nvGrpSpPr>
            <p:grpSpPr>
              <a:xfrm>
                <a:off x="2490480" y="4570560"/>
                <a:ext cx="1401840" cy="360"/>
                <a:chOff x="2490480" y="4570560"/>
                <a:chExt cx="1401840" cy="360"/>
              </a:xfrm>
            </p:grpSpPr>
            <p:sp>
              <p:nvSpPr>
                <p:cNvPr id="1155" name="直接连接符 67"/>
                <p:cNvSpPr/>
                <p:nvPr/>
              </p:nvSpPr>
              <p:spPr>
                <a:xfrm>
                  <a:off x="2490480" y="4570560"/>
                  <a:ext cx="1401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 txBox="1"/>
                <p:nvPr/>
              </p:nvSpPr>
              <p:spPr>
                <a:xfrm>
                  <a:off x="2490480" y="4570560"/>
                  <a:ext cx="140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7" name="组合 83"/>
            <p:cNvGrpSpPr/>
            <p:nvPr/>
          </p:nvGrpSpPr>
          <p:grpSpPr>
            <a:xfrm>
              <a:off x="4562280" y="3713040"/>
              <a:ext cx="1475280" cy="914400"/>
              <a:chOff x="4562280" y="3713040"/>
              <a:chExt cx="1475280" cy="914400"/>
            </a:xfrm>
          </p:grpSpPr>
          <p:sp>
            <p:nvSpPr>
              <p:cNvPr id="1158" name="TextBox 25"/>
              <p:cNvSpPr/>
              <p:nvPr/>
            </p:nvSpPr>
            <p:spPr>
              <a:xfrm>
                <a:off x="4562280" y="3713040"/>
                <a:ext cx="91440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6  7  9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×    1  3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9" name=""/>
              <p:cNvGrpSpPr/>
              <p:nvPr/>
            </p:nvGrpSpPr>
            <p:grpSpPr>
              <a:xfrm>
                <a:off x="4635720" y="4570560"/>
                <a:ext cx="1401840" cy="360"/>
                <a:chOff x="4635720" y="4570560"/>
                <a:chExt cx="1401840" cy="360"/>
              </a:xfrm>
            </p:grpSpPr>
            <p:sp>
              <p:nvSpPr>
                <p:cNvPr id="1160" name="直接连接符 70"/>
                <p:cNvSpPr/>
                <p:nvPr/>
              </p:nvSpPr>
              <p:spPr>
                <a:xfrm>
                  <a:off x="4635720" y="4570560"/>
                  <a:ext cx="1401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 txBox="1"/>
                <p:nvPr/>
              </p:nvSpPr>
              <p:spPr>
                <a:xfrm>
                  <a:off x="4635720" y="4570560"/>
                  <a:ext cx="140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2" name="组合 82"/>
            <p:cNvGrpSpPr/>
            <p:nvPr/>
          </p:nvGrpSpPr>
          <p:grpSpPr>
            <a:xfrm>
              <a:off x="6705360" y="3713040"/>
              <a:ext cx="1928520" cy="914400"/>
              <a:chOff x="6705360" y="3713040"/>
              <a:chExt cx="1928520" cy="914400"/>
            </a:xfrm>
          </p:grpSpPr>
          <p:sp>
            <p:nvSpPr>
              <p:cNvPr id="1163" name="TextBox 27"/>
              <p:cNvSpPr/>
              <p:nvPr/>
            </p:nvSpPr>
            <p:spPr>
              <a:xfrm>
                <a:off x="6705360" y="3713040"/>
                <a:ext cx="91440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        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2  8  6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×         3  5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4" name=""/>
              <p:cNvGrpSpPr/>
              <p:nvPr/>
            </p:nvGrpSpPr>
            <p:grpSpPr>
              <a:xfrm>
                <a:off x="6850080" y="4570560"/>
                <a:ext cx="1783800" cy="360"/>
                <a:chOff x="6850080" y="4570560"/>
                <a:chExt cx="1783800" cy="360"/>
              </a:xfrm>
            </p:grpSpPr>
            <p:sp>
              <p:nvSpPr>
                <p:cNvPr id="1165" name="直接连接符 73"/>
                <p:cNvSpPr/>
                <p:nvPr/>
              </p:nvSpPr>
              <p:spPr>
                <a:xfrm>
                  <a:off x="6850080" y="4570560"/>
                  <a:ext cx="1783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"/>
                <p:cNvSpPr txBox="1"/>
                <p:nvPr/>
              </p:nvSpPr>
              <p:spPr>
                <a:xfrm>
                  <a:off x="6850080" y="4570560"/>
                  <a:ext cx="1783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7" name="组合 91"/>
          <p:cNvGrpSpPr/>
          <p:nvPr/>
        </p:nvGrpSpPr>
        <p:grpSpPr>
          <a:xfrm>
            <a:off x="6845400" y="4570560"/>
            <a:ext cx="1788840" cy="914400"/>
            <a:chOff x="6845400" y="4570560"/>
            <a:chExt cx="1788840" cy="914400"/>
          </a:xfrm>
        </p:grpSpPr>
        <p:sp>
          <p:nvSpPr>
            <p:cNvPr id="1168" name="TextBox 72"/>
            <p:cNvSpPr/>
            <p:nvPr/>
          </p:nvSpPr>
          <p:spPr>
            <a:xfrm>
              <a:off x="6847560" y="4570560"/>
              <a:ext cx="9147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1  4  3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8  5  8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1  0  0  1  0</a:t>
              </a: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6845400" y="5389920"/>
              <a:ext cx="1788840" cy="360"/>
              <a:chOff x="6845400" y="5389920"/>
              <a:chExt cx="1788840" cy="360"/>
            </a:xfrm>
          </p:grpSpPr>
          <p:sp>
            <p:nvSpPr>
              <p:cNvPr id="1170" name="直接连接符 74"/>
              <p:cNvSpPr/>
              <p:nvPr/>
            </p:nvSpPr>
            <p:spPr>
              <a:xfrm>
                <a:off x="6845400" y="5389920"/>
                <a:ext cx="178884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 txBox="1"/>
              <p:nvPr/>
            </p:nvSpPr>
            <p:spPr>
              <a:xfrm>
                <a:off x="6845400" y="5389920"/>
                <a:ext cx="1788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7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4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75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6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7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83" name="Rectangle 64"/>
          <p:cNvSpPr/>
          <p:nvPr/>
        </p:nvSpPr>
        <p:spPr>
          <a:xfrm>
            <a:off x="501480" y="196920"/>
            <a:ext cx="2583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TextBox 8"/>
          <p:cNvSpPr/>
          <p:nvPr/>
        </p:nvSpPr>
        <p:spPr>
          <a:xfrm>
            <a:off x="574560" y="1092240"/>
            <a:ext cx="9155160" cy="39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先用两位数个位上的数与另一个因数的每一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  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依次相乘，所得积的末位同个位对齐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再用两位数十位上的数与另一个因数的每一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  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依次相乘，所得积的末位同十位对齐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3.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然后把两次乘得的结果加起来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8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7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88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9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0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96" name="Rectangle 64"/>
          <p:cNvSpPr/>
          <p:nvPr/>
        </p:nvSpPr>
        <p:spPr>
          <a:xfrm>
            <a:off x="301680" y="101520"/>
            <a:ext cx="29462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9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9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200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1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08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五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文本框 99"/>
          <p:cNvSpPr/>
          <p:nvPr/>
        </p:nvSpPr>
        <p:spPr>
          <a:xfrm>
            <a:off x="731880" y="750960"/>
            <a:ext cx="69721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计算下面各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 2 2             1 4 5             6 7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宋体"/>
              </a:rPr>
              <a:t>×  2 4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宋体"/>
              </a:rPr>
              <a:t>×  2 7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宋体"/>
              </a:rPr>
              <a:t>×  1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 7 2              3 8 6            6 1 9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宋体"/>
              </a:rPr>
              <a:t>×  8 6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宋体"/>
              </a:rPr>
              <a:t>×   5 5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宋体"/>
              </a:rPr>
              <a:t>×  2 7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文本框 1"/>
          <p:cNvSpPr/>
          <p:nvPr/>
        </p:nvSpPr>
        <p:spPr>
          <a:xfrm>
            <a:off x="725400" y="1998720"/>
            <a:ext cx="11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7 7 2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文本框 2"/>
          <p:cNvSpPr/>
          <p:nvPr/>
        </p:nvSpPr>
        <p:spPr>
          <a:xfrm>
            <a:off x="3027240" y="2000160"/>
            <a:ext cx="11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 9 1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文本框 3"/>
          <p:cNvSpPr/>
          <p:nvPr/>
        </p:nvSpPr>
        <p:spPr>
          <a:xfrm>
            <a:off x="5329080" y="2006640"/>
            <a:ext cx="11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8 8 2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文本框 4"/>
          <p:cNvSpPr/>
          <p:nvPr/>
        </p:nvSpPr>
        <p:spPr>
          <a:xfrm>
            <a:off x="487440" y="38559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2 3 3 9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文本框 6"/>
          <p:cNvSpPr/>
          <p:nvPr/>
        </p:nvSpPr>
        <p:spPr>
          <a:xfrm>
            <a:off x="2889360" y="383076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2 1 2 3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文本框 7"/>
          <p:cNvSpPr/>
          <p:nvPr/>
        </p:nvSpPr>
        <p:spPr>
          <a:xfrm>
            <a:off x="5057640" y="383364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1 6 7 1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01:01:22Z</dcterms:created>
  <dc:creator/>
  <dc:description/>
  <dc:language>en-US</dc:language>
  <cp:lastModifiedBy>万润仪器贸易公司</cp:lastModifiedBy>
  <dcterms:modified xsi:type="dcterms:W3CDTF">2020-08-21T08:55:56Z</dcterms:modified>
  <cp:revision>9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